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C9F-4A95-4B59-A276-31C2DC0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4A5-D8C8-4217-A623-DED167E5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B8283-3C03-458C-8D93-D3ADD9F8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C2B13-CEFE-48D1-B05A-F2C0F2A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E6105-2BB9-4DF5-AA9A-97E45D6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8A4F3-E970-4B37-97ED-8676D5F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0A7AC-E5DD-42E1-A0CA-0283FDD3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D8C47-E7D7-485A-AC5B-D9A61FE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99BF1-7FE1-406B-8438-93BDF1C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4412C-D4FD-426B-882E-AA7A592D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31E3-0935-442A-8686-7FC49FA5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EF260-D30D-45A3-A14A-DD8F05C1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BF8-A17F-4E85-B272-E598E6E3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826B7-6A40-41E1-B7F2-63C872C1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484A2-176E-4705-B960-E74F32A4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D5930-ADB4-4B6D-9B49-53DE0359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4BB0E-CF35-4434-ADDA-4B97706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2DBD5-8D70-435F-8AA7-BAAFCD30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C6EFC-97C4-40AC-B431-F9A3AB51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2C83-2223-4870-BD1C-08D16C5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FD733-76D1-4578-997C-3042B7C8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A43B9-67B7-45E3-BD0C-81BF1400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9547-B0D5-4AA9-A447-CBD7AB36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41E-AAB4-40A6-B2E7-C08B1489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D4D8F-BEA0-4008-8422-67B24B90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5386E-FB21-4085-859B-FC50221A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C8DB-A005-4E8C-8C7C-06780D3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4CD1-2644-40F5-8E68-9F6CC39B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09E7E-636C-4A14-899F-78D2510B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C5DCE-8CDF-49FF-91B4-41B7FE46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C68E-031F-4D5C-ACE9-C4CD689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AF45-68EC-486A-946D-BBA0B08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D8946-D5CA-4B5D-A6F5-779E3FE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DC402-D315-4D63-8C69-8B791DA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0DB-26D4-4B53-9CFD-F7171040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7FE55-6C5D-4AF2-BF7C-EAD91358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5D208-26A2-4E94-85E4-9C507805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9CC32-3B80-4B18-A73F-7FA743B4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D9B23-B7EE-4673-9439-287B569E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B165-A461-4B10-9299-1165D260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4C258-DFB4-44CE-A4AE-0BDE7A90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ADAD2-33C0-415B-94BD-D16B46FD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75DC4-4687-40CF-B33A-46D1349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06AEA-918E-4116-BAF7-6F5329A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57125-C827-461E-AEF8-6D71DA9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907D-FB30-49AF-8863-1B15F9F7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B4344-8772-45E9-9EA6-F756FEC6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DFB2A-24FC-4F1B-856B-940576B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C966D-F1A9-4D5A-BCC5-A12A4B6A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F70AF-D9F8-4F2A-8B64-C6986346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B76D0-4BD0-4CD7-BC31-01C06E3D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E9760-A58C-4489-BC62-C5BFCB8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CA447-BEF8-4B7B-BBBC-A7441FC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8241E-282D-42EB-9F44-988AD51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A7C4E-8B3B-4142-B213-158898CA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C6628-FC5E-430B-8933-4D4DEC78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3808-523A-4B3E-B05F-CECF92A7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978E8-4992-43E3-9B35-2BF67EB4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73DF7-D165-405E-B393-6A22AB6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41038-BAA4-45AC-9DBF-E8442327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E926D-D8F1-4C4E-9D6D-CF168CF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DCCDB-EB61-4A7F-8E0B-1DAC27F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993D2-A070-4CCD-ABCF-21BBED91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120AA-048B-4AFA-A9EE-10107442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984FD-12B8-43C7-8176-5B0773B3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2FF96-DE04-4733-8284-2B0FFD56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67A44-1952-47F4-B446-D09FE01B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2946-EF35-4408-A646-39BA4912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D5397-3FEE-43C2-92A9-2334D6B4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7F834-CDDC-4922-83D0-1E84E7C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90FAA-414B-4D96-AA9D-57B6830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6002E-8158-4A16-8C62-8045211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91191-ADC7-47EA-88B1-8F309A7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D1DE7-ECC7-43AC-A968-E4C279A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A2893-7EEC-4CCC-B083-D551E6A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A2462-4E48-426B-A2BC-D18EAF1C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06332-02D0-4BD1-8B10-104D03C7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BB6AD-5375-4D28-AC4C-46D7BA44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7447-76F6-4094-B2FB-58923BBB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CAEA6-3E28-4AFA-AF87-F24D9E06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06E4B-C07C-425C-8D8B-CA65742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0E06A-6767-4FC7-BD85-EBAA0749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E42EB-36EC-449D-B29E-A190BB3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23A81-E8E2-4161-A005-50C6A81F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35415-D28F-4022-BB93-7AC9904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6E76F-54D3-4A22-B277-2747EC5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BE0C1-1EE3-4941-86BD-B0BDB89C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BFF5B-F53D-4F51-A51B-C3CE2375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65A2E-7B27-4D4A-B170-2DD64F1C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F3F1-4A85-46FE-AD18-9AB94D9C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24021-4800-48B1-9786-48BF3E60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64BD0-1EBA-4D71-A59D-A35F4B96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4DE79-F5B8-41C9-B35F-667C649D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F564B-66D6-4AA2-AD75-66F500BF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C049D-80D8-45A0-8EA1-30441E3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63A26-7188-417B-AA9E-F8304DCA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13E3E-B263-4715-9BAD-D213645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4EE52-C7B4-4E47-848D-BAF02EE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0067B-EAA2-45D1-8624-91B0687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A1960-4EEE-4024-9BCE-5F5706D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C4D4-9346-491C-BF1C-192E19CE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4EC18-5EC3-4488-A61D-EF2F14AE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B490C-F8F4-467C-B134-EB9063FA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DB4C8-DD0D-4E52-A350-22AC47E9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71F64-B603-49D3-A54C-25AF4DE9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E25D1-E1B6-4383-BC1D-321D703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2B8DD-0348-491A-A29E-6632F3FC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F5C0F-CFFB-4D7A-A53D-FD30C6A7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96569-A7E6-4875-B776-3E1732E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D8999-09DE-45FD-BDEF-D5204D9E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7739D-228D-4247-BDE6-D77D2FE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BA1-E5BE-4FEE-85F8-5038823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0A2F-5568-4406-810A-9D05FCA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B4E4E-83F0-493D-BC95-6F90D03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867E8-2CAF-45CD-8FE2-2C1C27B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EBF7F-2A55-46C5-B008-B640AF0B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D0B4C-1109-4310-A407-2A867EE3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743AB-86A0-4720-81C7-D1833BC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4C982-54FA-424B-B455-1D31DBB8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04A1E-A4C8-4828-ABE3-65468C57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B7D9E-0F7D-422E-896E-04E19EAD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43A10-A837-4FBE-93CC-2E4A8A3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67819-4216-498D-AB27-193B50C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555D-57EC-4CB9-9A71-0A44243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85578-3BCC-4BE5-8BB0-C44B918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66A5A-4AF1-403E-B3CF-BBC100D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EFADC-0135-451F-AA10-D51980B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D5BB5-1BF9-4E0D-AE50-27FE5E3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7883C-B369-4812-9686-5262D18D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5B26A-29CC-4D21-91E1-7717A816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7C46B-BFCF-4E34-B615-C734FAA9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B5051-76D8-48EA-A69C-AA977469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EF755-1401-4C98-BAD7-BE91705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1A6DDE-7030-47B5-B2C0-9B54F8E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E636-15CB-4233-AD8B-B73E9178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48935-03D4-4C8B-A0FB-A920FB1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5845B-475D-4BE9-8928-CFAF5D2E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675CE-D58D-4D5A-9EE3-9EA2322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3E6A3-EE54-46FB-B2DC-0EB87DE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3C5EC-5F49-4FAD-BBBD-389EDB1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D103E-193C-4651-AED3-12CD129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869FD-6A2A-4068-A1E7-3005EB2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88AAF-E06E-4757-A5D5-4A414B8B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9DE18-0A3F-4517-8927-EADD5618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453BB-8D9F-4D02-AE51-DCE1BB76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E1FC-FFED-4CB1-80B4-F5F53B3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22DF6-0FAE-4CD6-A096-9D85B42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49D3F-2A60-41F7-AD60-9C5E3AB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DB6CD-6F56-444D-B39F-98708B71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A097F-AB81-4C10-90CB-754B92C9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E7FC4-7050-4C22-ADF9-9122545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6EC63-3E26-40F1-B6DB-D71A7DB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EF445-73DA-48DF-B3C1-301C65C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6B08C-D7C2-4E34-A3E7-B99D390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2541C-E184-4790-9CE3-ACB24FB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003A7-7FF2-4BE4-A9D5-DD3F8E24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DDA-DC53-40D3-BA30-F9B05E2B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70CD6-3857-4F54-9A78-F7292FCA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C6ED0-D687-435B-911C-F5358CEC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E9FAB-A2F6-4164-A4E3-747D905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C6BFB-E0FB-42BA-A8EF-12CCD7F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7AC08-C7B7-4087-80E0-5F4B3E0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3C63DE-2EF2-459F-9CD5-7114107C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03AA2-4A7A-42C8-B84A-575C264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C81C4-59EB-4010-85B3-D7E8595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A1867A-B249-4CB4-8729-461C6BF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1974F-4914-484A-99DC-CF4BB03C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38FE-B769-43BE-A70B-55EFF963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C4EA5-9D20-4BB1-B91D-53AE69B5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74B5E-3296-4C75-81A7-4BE223B5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59F1F-EF6A-4821-8859-027C7C57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AF78-F976-44C0-8558-CDCF5857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9662-D42C-4656-9E92-525A580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5664-EEE0-48F5-A5DF-658D40FF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0034-60BF-484B-98BE-9504B5B6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9BC-7905-4788-82E9-D09C3E3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4A21-328E-4984-93DD-4304646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64CC-59BA-44BA-ADA2-FAC2021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4AC0-2142-4498-B83F-2B7BB7A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DC56-5FA2-4792-AAC8-6D88E5E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E522-2520-47A0-8F36-8593B88B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57BE-9114-489A-9552-FF4E54F2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649A-19F3-4846-99ED-23DC6416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E81D-BC99-4414-B06A-FBA2EC10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2744-82AF-48B3-B879-E87BE6B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429E-A1F0-4E6A-8C9B-CD7DDB58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241-DFB4-4782-A10C-2008817C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84B4-8704-477D-A035-798106E6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AADB-678C-40F8-B5C5-FAF1BE8C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E40F-5374-444E-ACB3-255C4F4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52FE-DD68-4D5F-8DA0-46904F33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1854-BC81-4CCD-A492-AC0FDFC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CCB3-7A22-416F-98E0-E69DD63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F670-4639-4164-BC9A-8333CCB8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1ADD-7C09-4A2E-8B0D-7C68108B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C9BB0-F101-4CFC-9F98-83095AF3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5BA2-2EE7-4938-83B1-E1C35DA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3D9-F852-4911-89AA-46A3C85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E029-A86C-41DD-AFFE-9E441432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536EC-F5BE-4479-9737-509AF84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0E2D-F8B9-4E37-B132-60FF8A1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C224-9C72-477C-811C-6A15FB61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3E72-B43B-4FFA-83DC-0558494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4406-B5CA-4830-A648-43B37D8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ABA59-9B5B-4BEA-8EC2-EA31640E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A187-9DBA-409E-A76F-14B9868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50E3-E542-4988-BF94-A10C946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11AD-F7EE-4102-983B-426D2FCC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E57-C902-464F-A346-B5761A11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28EE-7CEA-4AE2-89B1-41B9584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FD48-54BB-467E-9AFD-3B0B6B55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835C-A451-4413-982F-FDB9CFE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DE0E-2B99-4FD6-9B74-B5686905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1F21-5693-4A2C-AF10-40AAF4C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91DD6-222B-4DF8-9F5C-7F5797C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5788C-5A85-415A-B0DE-AFC7023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18574-BDFF-4C23-AE5D-6D2910E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853E-A7EC-482F-B8E3-D2C2371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49C7-7C5C-4BC1-87C8-F463E748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2BB-5803-4E95-9832-B4B92F2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64E8-5C1E-4FFD-80C5-2FAD9908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DE5E-8EA0-4570-A656-407A9DB4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C8C3-2B22-49CA-930A-A817CA36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DA30-E979-4E89-B3FE-40AE8EF5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9BE16-9F11-461A-A6AB-DFE32D0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F949-7EAF-4B3F-BEFC-B11470A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63B2-58CC-49CB-A477-39DA37B9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19B29-70EC-4B6A-AF75-1192A5A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2923-DCA6-4D3C-A82A-ABE636DB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C125A-AFC5-4D4C-B8AF-8B6BD871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88F-A94B-483D-A242-7879411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F56C-C242-4181-B0EC-54944AC8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76F7-543C-40DA-901C-067063E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49EE-D9C0-4D20-97F3-027C490D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DEAC-6560-474F-A834-07FCDE5B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91DE0-06C7-4FEB-80FF-26345336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A33B2-C817-47D4-AFE8-69CD20D3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D8493-6D7B-4CA7-83BC-1F321528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4C67-ADAB-488D-BBEB-5A76F711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57F9-BED9-46C0-92BE-25760DFC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3192-6E13-452F-885F-DC8208F4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1DA-F7BE-49D8-B8F4-882B11E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BB9F-8B04-4322-821C-8EF3A7D3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5E4D-0515-42EE-8A89-535BBED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7976-A1F0-4FCC-9D39-04A0F9C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862C-119C-4227-AEBC-460B11B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5EEE-2F61-4486-A0E6-70410128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BF42-2300-40A3-B186-6E2FA669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5E72A-EE80-4A61-A3C7-B1D4F619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91B18-6FD6-467C-915D-3B38BE54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E1789-AAFC-4A0D-A3FA-F0A8845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6D472-4B2E-4CFC-BE36-0FE882E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32E9-B14F-4328-9E97-A2C07943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8BA-2560-4D09-875A-A4E2CDB4B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0DCD-3344-41FC-9203-57D40D380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ABF-23ED-46AD-8E33-09769946C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80B8-BC40-490B-9D0A-D539C7556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5A8D-56CF-4164-9A7E-88C08B3E6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A4E-47A8-4ED8-BF21-629E0CCAB9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3BE-A440-491C-9A73-669B3D0CB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A42E-EC06-4F87-B8F8-FC5CFD916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84C9-4DC7-4CE1-80C8-66BF6CD220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E39-9470-4DE8-88C6-B5E89E1CD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CE1-449B-4751-AAD2-860F7CBA86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598D-4193-4B69-A254-19752D926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C94-EF56-44AC-86FA-6003E1403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7E0-12FA-4075-8C96-0D8AC9C3F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A0D-09BB-41C3-97B5-8C8BCBF35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B3D0-BBE4-41B8-8D37-0751C6172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1D5E-0E61-4B8D-A315-C557D96BE4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B407-72B2-4127-8135-82DC09B89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C84-1DAA-45E4-9395-7960C02C7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DD2-9BF8-45F3-901C-C4B1928423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06A-AF1F-42AC-A5A3-92D70EB083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0550-0F08-4DDB-A5B8-969B05FE0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42E-2C6F-41FF-AA18-5BAA0862B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0E33-1B86-43AD-988A-B4AD73DF26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528A-D810-48AB-AE47-1E7852164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D431-9D67-48DA-A410-51299E7B7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FD75-BC66-43C4-B75D-1A486C55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9D5-655D-456A-A5C0-DBBC66FD70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753-5A35-4A08-9102-BE462AD7AF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036-E17B-408F-B5D8-987ED4788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773E-5766-404F-AE3A-773D2870A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D9CA-93AF-40DC-9B39-1063E3851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6AD-028F-47F7-BAB3-FD3F63DAC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EB14-E9DA-4B05-B895-DE6B15EF6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278-EE4C-4576-A6B9-82BBF7C8D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6D85-9646-4047-8314-B9C71663B8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CBD-5ED3-4C40-86F1-15CA95DC1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86D6-4558-41F6-93A8-C4FF46E23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B766-2207-4815-B514-21D152CD0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62080" y="3009960"/>
            <a:ext cx="6819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42920" y="1104840"/>
            <a:ext cx="8858160" cy="4648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265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80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148360" y="380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5027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5148360" y="5027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23840" y="2090880"/>
            <a:ext cx="8896320" cy="2676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2268360" y="3687840"/>
            <a:ext cx="604872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124000" y="4278240"/>
            <a:ext cx="6048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71680" y="341280"/>
            <a:ext cx="8001000" cy="6315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6146" descr=""/>
          <p:cNvPicPr/>
          <p:nvPr/>
        </p:nvPicPr>
        <p:blipFill>
          <a:blip r:embed="rId2"/>
          <a:stretch/>
        </p:blipFill>
        <p:spPr>
          <a:xfrm>
            <a:off x="4572000" y="2506680"/>
            <a:ext cx="1152360" cy="558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6147" descr=""/>
          <p:cNvPicPr/>
          <p:nvPr/>
        </p:nvPicPr>
        <p:blipFill>
          <a:blip r:embed="rId3"/>
          <a:stretch/>
        </p:blipFill>
        <p:spPr>
          <a:xfrm>
            <a:off x="5651640" y="4062240"/>
            <a:ext cx="1225440" cy="55908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148" descr=""/>
          <p:cNvPicPr/>
          <p:nvPr/>
        </p:nvPicPr>
        <p:blipFill>
          <a:blip r:embed="rId4"/>
          <a:stretch/>
        </p:blipFill>
        <p:spPr>
          <a:xfrm>
            <a:off x="4498920" y="5630760"/>
            <a:ext cx="10810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490680" y="1924200"/>
            <a:ext cx="8161200" cy="30096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170" descr=""/>
          <p:cNvPicPr/>
          <p:nvPr/>
        </p:nvPicPr>
        <p:blipFill>
          <a:blip r:embed="rId2"/>
          <a:stretch/>
        </p:blipFill>
        <p:spPr>
          <a:xfrm>
            <a:off x="3635280" y="2319480"/>
            <a:ext cx="1224000" cy="5587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7171" descr=""/>
          <p:cNvPicPr/>
          <p:nvPr/>
        </p:nvPicPr>
        <p:blipFill>
          <a:blip r:embed="rId3"/>
          <a:stretch/>
        </p:blipFill>
        <p:spPr>
          <a:xfrm>
            <a:off x="2871720" y="3875040"/>
            <a:ext cx="17002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1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